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DED-3816-41BD-AEEB-6943E84C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B26-B1F3-4FA5-8C32-537FBB31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1C9-8AFA-4B39-A732-1DD78C15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F27-9F01-4ABD-9F53-04DDC245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5352-DBF8-4BE6-92C8-08DAEC78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FD75-D210-4D02-BF98-422B10B7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9BFF-2234-4CAB-9D69-3D96D264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8231-7746-408C-8F78-BD971542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A869-8D01-4FBD-BECD-EB5CD3C5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A036-E3C5-48B9-9CCF-62E9A417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9F2A-C9F0-4C0A-B7E8-1878F419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C88-1B89-4CFE-B32C-B0F972CD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5933-DE8B-4C80-BC7B-3B83742C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7DE9-28B8-41E9-92F4-9B8C872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97CD-EFA2-4C49-A36D-F76BDADE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8720-6622-4C9F-9CB0-17C457C1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88BB-63DB-4E41-95A0-9B0FB622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9AB4-E2A9-4AB9-83ED-6F9CDEBE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89E1-9359-4DDA-923B-6F9FA2B4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7FC6-DF90-450F-BE0D-F59111ED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231C2-E19D-412F-926C-BA5140A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9A13-E339-4043-9C6F-A0B6FFA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A78-5CAE-4AF0-8932-223BDADD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7EE3-0072-42F1-8ACF-03787751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2F59-7E49-42C0-B1BC-11F587CD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CC1E1-CACD-4766-90D9-E664E305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10FC-34D3-47C2-8D57-B77A1FA7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E285-E7D9-44B1-9666-9E83A7C5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8BD3-E926-460E-B50C-6726327A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4EEF-DE1E-4F3C-8F89-C2057CC0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62F0-1D5A-4C6A-8F84-1FE04CC5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B701D-266A-4B9D-90CA-4FDED539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BD256-FBF3-416D-BD0B-C2582C0B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42A-4D69-4CD3-BBF2-B57345CB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22A1-CFD7-4F0C-9A5D-4844C98C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2D45F-03D6-4DB8-A6DC-2A29461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37F31-A302-4F17-AEC6-AAB7DA83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E4D8B-7E8C-43A7-B73E-2F966795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EEFC-843B-4376-AF2E-9773643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25A0F-3A42-4990-92F4-93305458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B077-749B-4850-BD53-6B0834DE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025E-DEF9-4D8E-AF03-16BB5943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C9FE4-A880-4423-9656-610B49E6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DECF9-0556-472B-A6E1-1E51D5D4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602-AFE0-496C-8A0E-B7AEF575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3BB8B-A5CE-4435-A256-9B86EFA1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5D9CC-38EE-4001-81AC-788E07D5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C4203-BEC8-4BD1-AB77-A89D2283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72A59-D081-440D-97B7-2DB977B6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24E82-DC5B-4499-8AFA-CA3A4125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6C0EC-B104-427B-8924-142C9B3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40DE-4BB3-4123-B439-FF1B12A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1F98-1F2B-47CE-9949-E3BE959E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C704A-68C1-4EFA-AD0F-B9BA2392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4DDE7-9678-4079-AC65-1A6B0C4A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984-9CDC-4B80-B20D-1F45F915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5D9F6-DC16-400F-B937-FECE6A58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EB3-E814-4E15-9738-08107421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F47-D9C2-4AB5-AC91-69E2ED62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911-FD8F-410E-9455-9FE4454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9BD7-7F7A-4364-88A6-56F5DE282A4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6A54-0799-49C9-AB94-6E4CC369C74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D147-1B4A-4B2E-8AFF-244091491B3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1E13-93F8-4772-886F-74CF237F7165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F29-067D-49DF-8A24-8DBF0E4A9C9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0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ET 50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Visual Introduc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2"/>
          <a:stretch/>
        </p:blipFill>
        <p:spPr>
          <a:xfrm>
            <a:off x="5200560" y="1139760"/>
            <a:ext cx="3625920" cy="20671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9000"/>
          </a:bodyPr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hnston City, Illinois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1407 Davis Street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hnston City High School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John A. Logan Colleg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Southern Illinois University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1085760" y="1390680"/>
            <a:ext cx="33148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2"/>
          <a:stretch/>
        </p:blipFill>
        <p:spPr>
          <a:xfrm>
            <a:off x="5200560" y="1139760"/>
            <a:ext cx="3625920" cy="2067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My #1 Fan!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Grandpa Joe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Without him this would impossible!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1085760" y="1616040"/>
            <a:ext cx="29196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lvl="4" marL="18288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5897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ved On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t Collins, C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osc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n Thom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kund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5" descr="C:\Users\Tasha\Pictures\2009-10-18\396.JPG"/>
          <p:cNvPicPr/>
          <p:nvPr/>
        </p:nvPicPr>
        <p:blipFill>
          <a:blip r:embed="rId3"/>
          <a:stretch/>
        </p:blipFill>
        <p:spPr>
          <a:xfrm>
            <a:off x="6324480" y="4114800"/>
            <a:ext cx="1752840" cy="1284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4137120" y="2362320"/>
            <a:ext cx="1806480" cy="1523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5"/>
          <a:stretch/>
        </p:blipFill>
        <p:spPr>
          <a:xfrm>
            <a:off x="6324480" y="2362320"/>
            <a:ext cx="1752840" cy="1523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Users\Tasha\Pictures\2009-10-18\396.JPG"/>
          <p:cNvPicPr/>
          <p:nvPr/>
        </p:nvPicPr>
        <p:blipFill>
          <a:blip r:embed="rId6"/>
          <a:stretch/>
        </p:blipFill>
        <p:spPr>
          <a:xfrm>
            <a:off x="4038480" y="4114800"/>
            <a:ext cx="1905120" cy="1284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C:\Users\Tasha\Pictures\2009-10-18\537.JPG"/>
          <p:cNvPicPr/>
          <p:nvPr/>
        </p:nvPicPr>
        <p:blipFill>
          <a:blip r:embed="rId7"/>
          <a:stretch/>
        </p:blipFill>
        <p:spPr>
          <a:xfrm>
            <a:off x="4114800" y="762120"/>
            <a:ext cx="1778040" cy="1295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C:\Users\Tasha\Pictures\2009-10-18\537.JPG"/>
          <p:cNvPicPr/>
          <p:nvPr/>
        </p:nvPicPr>
        <p:blipFill>
          <a:blip r:embed="rId8"/>
          <a:stretch/>
        </p:blipFill>
        <p:spPr>
          <a:xfrm>
            <a:off x="6324480" y="762120"/>
            <a:ext cx="1752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riends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nowboard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mp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us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C:\Users\Tasha\Pictures\2009-08-26\093.JPG"/>
          <p:cNvPicPr/>
          <p:nvPr/>
        </p:nvPicPr>
        <p:blipFill>
          <a:blip r:embed="rId2"/>
          <a:stretch/>
        </p:blipFill>
        <p:spPr>
          <a:xfrm>
            <a:off x="5791320" y="518148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3"/>
          <a:stretch/>
        </p:blipFill>
        <p:spPr>
          <a:xfrm>
            <a:off x="4343400" y="3581280"/>
            <a:ext cx="3193920" cy="1295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C:\Users\Tasha\Pictures\2009-10-18\534.JPG"/>
          <p:cNvPicPr/>
          <p:nvPr/>
        </p:nvPicPr>
        <p:blipFill>
          <a:blip r:embed="rId4"/>
          <a:stretch/>
        </p:blipFill>
        <p:spPr>
          <a:xfrm>
            <a:off x="4419720" y="304920"/>
            <a:ext cx="2895480" cy="1322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C:\Users\Tasha\AppData\Local\Microsoft\Windows\Temporary Internet Files\Low\Content.IE5\LECOVS6Z\0418091436[1].jpg"/>
          <p:cNvPicPr/>
          <p:nvPr/>
        </p:nvPicPr>
        <p:blipFill>
          <a:blip r:embed="rId5"/>
          <a:stretch/>
        </p:blipFill>
        <p:spPr>
          <a:xfrm>
            <a:off x="4876920" y="182880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Tasha\Pictures\2009-11-03 Phish Festival 8\Phish Festival 8 066.JPG"/>
          <p:cNvPicPr/>
          <p:nvPr/>
        </p:nvPicPr>
        <p:blipFill>
          <a:blip r:embed="rId6"/>
          <a:stretch/>
        </p:blipFill>
        <p:spPr>
          <a:xfrm>
            <a:off x="3276720" y="5181480"/>
            <a:ext cx="20574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9:56:00Z</dcterms:created>
  <dc:creator>Tasha</dc:creator>
  <dc:description/>
  <dc:language>en-US</dc:language>
  <cp:lastModifiedBy>ttolbert</cp:lastModifiedBy>
  <dcterms:modified xsi:type="dcterms:W3CDTF">2009-12-11T22:40:42Z</dcterms:modified>
  <cp:revision>29</cp:revision>
  <dc:subject/>
  <dc:title>Tasha Tolbert</dc:title>
</cp:coreProperties>
</file>